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D77-71E5-4BCA-9F8D-8661044B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F5D-17EF-42B4-825B-D83C1014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E3A-477A-4155-B7BA-C7C8BC4D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3FA0-E956-4184-A3C3-86F3C752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ACC-AEA0-4AC5-BC42-48FE1C72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1AD-FC1F-4DE7-8BE6-35CA6D97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C5B-0A50-4012-8030-418F5217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EF2-EB54-4F48-872D-3F37C006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E0E-C4DB-448D-B799-BEF3676B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1A6-5000-44C1-B9CB-7E869190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4C0-A774-4D77-94D6-99CDE63E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A00-D912-4389-9865-40A6447C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9DB2-C96C-484C-B0E6-E74CAA1A2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9140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MY FOOD PYRAM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What Makes Me Healt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food pyramid"/>
          <p:cNvPicPr/>
          <p:nvPr/>
        </p:nvPicPr>
        <p:blipFill>
          <a:blip r:embed="rId1"/>
          <a:stretch/>
        </p:blipFill>
        <p:spPr>
          <a:xfrm>
            <a:off x="3657600" y="35053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VEG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Pj04387180000[1]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64184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R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Pj04392920000[1]"/>
          <p:cNvPicPr/>
          <p:nvPr/>
        </p:nvPicPr>
        <p:blipFill>
          <a:blip r:embed="rId1"/>
          <a:stretch/>
        </p:blipFill>
        <p:spPr>
          <a:xfrm>
            <a:off x="380880" y="1371600"/>
            <a:ext cx="8305920" cy="479736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Pj04387780000[1]"/>
          <p:cNvPicPr/>
          <p:nvPr/>
        </p:nvPicPr>
        <p:blipFill>
          <a:blip r:embed="rId1"/>
          <a:stretch/>
        </p:blipFill>
        <p:spPr>
          <a:xfrm>
            <a:off x="1219320" y="1447920"/>
            <a:ext cx="6629400" cy="464796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"/>
              </a:rPr>
              <a:t>DAI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4248540000[1]"/>
          <p:cNvPicPr/>
          <p:nvPr/>
        </p:nvPicPr>
        <p:blipFill>
          <a:blip r:embed="rId1"/>
          <a:stretch/>
        </p:blipFill>
        <p:spPr>
          <a:xfrm>
            <a:off x="457200" y="1981080"/>
            <a:ext cx="2347920" cy="2819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CFD01913_0000[1]"/>
          <p:cNvPicPr/>
          <p:nvPr/>
        </p:nvPicPr>
        <p:blipFill>
          <a:blip r:embed="rId2"/>
          <a:stretch/>
        </p:blipFill>
        <p:spPr>
          <a:xfrm>
            <a:off x="6019920" y="1905120"/>
            <a:ext cx="2438280" cy="411480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3300"/>
                </a:solidFill>
                <a:latin typeface="Arial"/>
              </a:rPr>
              <a:t>GRA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LRE6061\Local Settings\Temporary Internet Files\Content.IE5\CLMXM70P\MPj04333220000[1].jpg"/>
          <p:cNvPicPr/>
          <p:nvPr/>
        </p:nvPicPr>
        <p:blipFill>
          <a:blip r:embed="rId1"/>
          <a:stretch/>
        </p:blipFill>
        <p:spPr>
          <a:xfrm>
            <a:off x="1336680" y="1708200"/>
            <a:ext cx="6470640" cy="430992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9:21:31Z</dcterms:created>
  <dc:creator>rtc04</dc:creator>
  <dc:description/>
  <dc:language>en-US</dc:language>
  <cp:lastModifiedBy>LRE6061</cp:lastModifiedBy>
  <dcterms:modified xsi:type="dcterms:W3CDTF">2009-06-19T15:43:54Z</dcterms:modified>
  <cp:revision>3</cp:revision>
  <dc:subject/>
  <dc:title>My Food Pyramid</dc:title>
</cp:coreProperties>
</file>